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A20-2816-491A-882A-5FFF2E71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252-F807-4B10-8C40-D8046BB1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2F6-E436-4EDB-BDC1-0A24216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B55-A141-4F10-BE8F-A190DD9B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75B4-E78A-4BB7-8888-42A2EB63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ED0-368C-4C85-90A9-CCBAA27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8D32-6A76-4D82-AB76-55D04F7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889-3508-42C6-A241-33DB98F2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4F4F-234A-498E-B162-221DD67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689-5BF9-4EB4-804A-2CD902EC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4C6-A0AB-4591-BCDE-0C14D64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647-C828-4182-B135-FCD34ED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908-5E82-49AC-B887-5378300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B125-C7E9-4C83-970B-9B62750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9E0-0CFA-4780-BC93-A85F424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7773-8E69-467C-8592-BD73D9A1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D6D-B013-4337-837D-72CC9A1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DEB-DE57-4C0F-A8EC-C4D98680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84E-F926-43C3-8E1F-4977ED3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7A7-5453-47CD-BA91-7D47398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CCD-FDE8-4C63-BC1B-0B85EFF5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AAD-64A7-4DEE-9E4F-A4D2D34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9F1-35E6-40BE-A79A-4A5AE23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343-65BD-42BC-BF30-F2B7633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577-49A3-42B9-A808-5D1CA63DD80E}" type="slidenum"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91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91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ECF7-A0E0-4BC6-A91B-BE4C1F8CBC69}" type="slidenum">
              <a:rPr b="0" lang="en-US" sz="1400" spc="-1" strike="noStrike">
                <a:solidFill>
                  <a:srgbClr val="fff91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910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91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9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1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od.co.uk/HOSPITALS/services/Micro/Images/BacCl3.jpg&amp;imgrefurl=http://www.blood.co.uk/HOSPITALS/services/Micro/Bact2.htm&amp;h=269&amp;w=405&amp;sz=11&amp;hl=en&amp;start=59&amp;tbnid=dVQvbsyuF8eCUM:&amp;tbnh=82&amp;tbnw=124&amp;prev=/images%3Fq%3Dbacterial%2Bgrowth%26start%3D40%26ndsp%3D20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 to Thinking Like a Scienti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How do Scientists Think?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phing Pract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3000" y="1397160"/>
          <a:ext cx="6858000" cy="45478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Number of Bacterial Colonies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1368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Incubations Time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(Days)</a:t>
                      </a:r>
                      <a:endParaRPr b="0" lang="en-US" sz="32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1368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5760">
                      <a:solidFill>
                        <a:srgbClr val="fff91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910"/>
                      </a:solidFill>
                    </a:lnL>
                    <a:lnR w="576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13680">
                      <a:solidFill>
                        <a:srgbClr val="fff91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91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91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910"/>
                      </a:solidFill>
                    </a:lnL>
                    <a:lnR w="13680">
                      <a:solidFill>
                        <a:srgbClr val="fff910"/>
                      </a:solidFill>
                    </a:lnR>
                    <a:lnT w="5760">
                      <a:solidFill>
                        <a:srgbClr val="fff910"/>
                      </a:solidFill>
                    </a:lnT>
                    <a:lnB w="13680">
                      <a:solidFill>
                        <a:srgbClr val="fff91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If bacterial growth increases over time, what will this graph look like?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762120"/>
            <a:ext cx="0" cy="426708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029200"/>
            <a:ext cx="59436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1066320"/>
            <a:ext cx="5333760" cy="39625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334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910"/>
                </a:solidFill>
                <a:latin typeface="Times New Roman"/>
              </a:rPr>
              <a:t>Number of Day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33520"/>
            <a:ext cx="2057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52480"/>
            <a:ext cx="205740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# </a:t>
            </a:r>
            <a:r>
              <a:rPr b="1" lang="en-US" sz="2400" spc="-1" strike="noStrike">
                <a:solidFill>
                  <a:srgbClr val="fff91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910"/>
                </a:solidFill>
                <a:latin typeface="Times New Roman"/>
              </a:rPr>
              <a:t>Colonies</a:t>
            </a:r>
            <a:endParaRPr b="0" lang="en-US" sz="20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049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910"/>
                </a:solidFill>
                <a:latin typeface="Times New Roman"/>
              </a:rPr>
              <a:t>Bacterial Growth over Tim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10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10"/>
                </a:solidFill>
                <a:latin typeface="Times New Roman"/>
              </a:rPr>
              <a:t>Accuracy vs.  Precision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Accuracy:  How close data is to ‘accepted value’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Precision:  how close data is to a sequence of values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ical Thinking is Comm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Use the Scientific Method to solve a problem now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Example #1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Observation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Hypothesis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Experiment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Results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Conclusion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3200400" cy="24004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3429000"/>
            <a:ext cx="2666880" cy="26128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2193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he professor”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5943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Dr. Frankenstein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10"/>
                </a:solidFill>
                <a:latin typeface="Times New Roman"/>
              </a:rPr>
              <a:t>Not All Scientists look like this…</a:t>
            </a:r>
            <a:endParaRPr b="0" lang="en-US" sz="40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00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10"/>
                </a:solidFill>
                <a:latin typeface="Times New Roman"/>
              </a:rPr>
              <a:t>But all scientists use INQURY and REASON to solve problems.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sed Of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Hypothes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Experimentat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Theory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Law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tific Method Is Composed Of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910"/>
                </a:solidFill>
                <a:latin typeface="Arial"/>
              </a:rPr>
              <a:t>bservation</a:t>
            </a:r>
            <a:endParaRPr b="0" lang="en-US" sz="36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Use your 5 senses to gather information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Proposed solution to problem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planation of observation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Must be testable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Way to test your hypothesis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Data gathered from experiment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10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:  data that is numerical/quantifiable.  Shows an amount of something under scrutiny.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10"/>
                </a:solidFill>
                <a:latin typeface="Arial"/>
              </a:rPr>
              <a:t>Qualitative</a:t>
            </a: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:  data that is descriptive.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91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Ie: Color/odor/texture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Proving or disproving your hypothesis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910"/>
                </a:solidFill>
                <a:latin typeface="Arial"/>
              </a:rPr>
              <a:t>Theory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Well tested explanations that unifies a broad range of observation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910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Arial"/>
              </a:rPr>
              <a:t>Accepted through scientific community.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 Cont.-Graph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910"/>
                </a:solidFill>
                <a:latin typeface="Times New Roman"/>
              </a:rPr>
              <a:t>Graphing</a:t>
            </a: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 is important to gathering resluts.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All graphs have: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1.  X and Y Axis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14800"/>
            <a:ext cx="0" cy="19051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6019920"/>
            <a:ext cx="25146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114800"/>
            <a:ext cx="1143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Y- AXI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6095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X- AXIS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2.  Independent Variabl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time, depth, temp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10"/>
                </a:solidFill>
                <a:latin typeface="Times New Roman"/>
              </a:rPr>
              <a:t>3.  Dependent Variable</a:t>
            </a:r>
            <a:endParaRPr b="0" lang="en-US" sz="32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Arial"/>
              </a:rPr>
              <a:t>This is what is directly affected by the ind. variable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10"/>
                </a:solidFill>
                <a:latin typeface="Times New Roman"/>
              </a:rPr>
              <a:t>Growth rate, amount of light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91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752480"/>
            <a:ext cx="0" cy="350532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257800"/>
            <a:ext cx="5029200" cy="0"/>
          </a:xfrm>
          <a:prstGeom prst="line">
            <a:avLst/>
          </a:prstGeom>
          <a:ln w="9360">
            <a:solidFill>
              <a:srgbClr val="fff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15000"/>
            <a:ext cx="6400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Indpendent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orizontal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ndependent </a:t>
            </a: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ariable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Time/depth/temp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66880"/>
            <a:ext cx="1981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10"/>
                </a:solidFill>
                <a:latin typeface="Times New Roman"/>
              </a:rPr>
              <a:t>Dependent-</a:t>
            </a:r>
            <a:endParaRPr b="0" lang="en-US" sz="2800" spc="-1" strike="noStrike">
              <a:solidFill>
                <a:srgbClr val="fff91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10"/>
                </a:solidFill>
                <a:latin typeface="Times New Roman"/>
              </a:rPr>
              <a:t>Growth rate/amount of light</a:t>
            </a:r>
            <a:endParaRPr b="0" lang="en-US" sz="2400" spc="-1" strike="noStrike">
              <a:solidFill>
                <a:srgbClr val="fff91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5:34:02Z</dcterms:created>
  <dc:creator>Site License</dc:creator>
  <dc:description/>
  <dc:language>en-US</dc:language>
  <cp:lastModifiedBy>Tera Linn</cp:lastModifiedBy>
  <dcterms:modified xsi:type="dcterms:W3CDTF">2008-08-27T15:42:05Z</dcterms:modified>
  <cp:revision>14</cp:revision>
  <dc:subject/>
  <dc:title>Intro to Thinking Like a Scientist</dc:title>
</cp:coreProperties>
</file>